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70B-055A-40DE-BA6B-D891C08C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1D9-EB18-47A3-9890-B03383F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2DD-F2B9-4EEC-8F3B-033D0C39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F58-AE71-44BC-9686-4E3DB89A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118-C219-42F5-B6AB-7A534C19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E11-05EE-401A-A489-7C04966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E8B-AFE0-4ABC-8E08-06F0266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269-D1AB-4BFC-8474-0EF77176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D53-69AF-49A1-AE70-2D666DC2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BE5-09AF-4F8C-9397-89C7F431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A8C-FCE6-4B7F-84AD-C0968DE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207-C5DD-48AB-A030-2F10F53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68D2-A0B1-4146-996D-01EA3AFF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28036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ulo ITEMS esta diseñado para realizar la mantencion de las tablas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Materias Pr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Insu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-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estos ITEMS mencionados, son utilizados finalmente en todo el ciclo operativo de la Empresa, tales como; Ventas, Compras, Produccion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9138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O ITEM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cceder al modulo Items, debe ir al menu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dores &gt; Catalogo &gt;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44Z</dcterms:created>
  <dc:creator>.</dc:creator>
  <dc:description/>
  <dc:language>en-US</dc:language>
  <cp:lastModifiedBy>.</cp:lastModifiedBy>
  <dcterms:modified xsi:type="dcterms:W3CDTF">2011-10-24T16:09:43Z</dcterms:modified>
  <cp:revision>2</cp:revision>
  <dc:subject/>
  <dc:title>Diapositiva 1</dc:title>
</cp:coreProperties>
</file>